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D202-E50E-4605-B7A6-0F232BA47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FAB5-89A2-4F82-AFC7-172FC6186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EB8C-0968-4F6B-83BD-6DBB38D20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5BB8-A7CD-4855-B316-D1E1B8471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3387-42A3-4049-8697-AB8FA3D8E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2E1C-1F8F-4465-A6E3-55195996C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B71F-A391-42E0-A3BE-E36F7250C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A105-75ED-4D6B-8BE2-5B4391D4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2A95-4D29-461C-8993-F18AD4D35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D4B1-5785-405E-9120-C6474424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9889-2060-4490-AB26-3BCE41B2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CDC0-63AC-45CE-AA5F-24BC8400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35768-B54A-4BB2-9DE3-8D237435C0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DD1CB-0B54-4352-81F5-6EF168FF51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383600" y="3333600"/>
            <a:ext cx="1760400" cy="3524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306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PACK Framework Activit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47920" y="259092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98989"/>
                </a:solidFill>
                <a:latin typeface="Calibri"/>
              </a:rPr>
              <a:t>Using the TPACK Framework students will identify: content, pedagogy, and technology in a real school activity. Students will complete the TPACK Framework at the beginning of class. Revisit the process at the end of class and revisit/revise their TPACK Framework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Rectangle 3" descr=""/>
          <p:cNvPicPr/>
          <p:nvPr/>
        </p:nvPicPr>
        <p:blipFill>
          <a:blip r:embed="rId2"/>
          <a:stretch/>
        </p:blipFill>
        <p:spPr>
          <a:xfrm>
            <a:off x="719280" y="4827600"/>
            <a:ext cx="805320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PACK Framework Activit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Content Placeholder 3" descr="Tpack-contexts.jpg"/>
          <p:cNvPicPr/>
          <p:nvPr/>
        </p:nvPicPr>
        <p:blipFill>
          <a:blip r:embed="rId1"/>
          <a:stretch/>
        </p:blipFill>
        <p:spPr>
          <a:xfrm>
            <a:off x="2057400" y="1143000"/>
            <a:ext cx="5181480" cy="52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PACK Framework Activit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0492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ent knowledge = Programming Loo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dagogy Knowledge = Lecture with exa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a coun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chnology Knowledge = use VB to draw li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 pixels using a loo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PACK Solution = The student will draw X Y axis using loops and drawing pix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20:17:26Z</dcterms:created>
  <dc:creator>sbswan02</dc:creator>
  <dc:description/>
  <dc:language>en-US</dc:language>
  <cp:lastModifiedBy>201g_07</cp:lastModifiedBy>
  <dcterms:modified xsi:type="dcterms:W3CDTF">2010-08-30T22:36:59Z</dcterms:modified>
  <cp:revision>6</cp:revision>
  <dc:subject/>
  <dc:title>TPACK Framework Activity </dc:title>
</cp:coreProperties>
</file>